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272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6C26-2FD2-4E31-B009-ACC7EF949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-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- link/framing other student’s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- point out the larger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 - Look carefully at works of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- Talk about what they ob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d - Back up their ideas with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 - Listen to and consider the views of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 -   Discuss many possible interpre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did V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ual Thinking Strategies (VTS) teaching method and school curriculum centers on open-ended yet highly-structured discussions of visual art, significantly increasing students' critical thinking, language and literacy skills along the way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Audrey Morton Miller expressed that VTS is “an exciting way to get students talking, observing, making inferences, and backing them up. And it's had a big effect on me as a teacher. I've gone from being the expert, the one who always has the knowledge, to being more of a facilitato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en’s rationale for using art as the vehicle for learning and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part of her research, Housen described 5 stages apparent through the AD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70s, Abigail Housen's research demonstrated that viewers understand works of art in predictable patterns called stages. She found that when asked viewers talk in a stream-of-consciousness monologue about an image, and every idea, association, pause, and observation is transcribed and analyzed, the different stages become appa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ive - observation, narrative, judgments are based on what is known and what is liked, emotions r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ve - build framework for viewing art, judgment and value often based on re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ying - associate work to facts, history, etc. look at it like an art histor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ive - critical skills are put in the service of feelings and intuitions as these viewers let underlying meanings of the work what it symbolizes eme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Creative - willingly suspend belief, treat art as an old friend but allow it to still surprise with new thoughts/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A919-E17C-4D12-8900-1537F276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0ABC-072D-448B-99E5-5AF4F286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14E-1483-4270-B48D-9C20071D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9E62-1BE9-46E4-B084-79CBE51E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604F-825D-4125-B729-C0D8E694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D6CE-2BB2-4641-95D9-7E1E6ACA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C7A4-8FCC-4569-9EC7-025BB2BF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7231-D0D0-4246-BEEB-AB40E6D5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8566-27FA-4C5F-A549-518E3749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9216-8689-4833-99E8-5A3E46B0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547D-7B9C-487F-828D-2CA6D33A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1A2-BD10-48D5-B78B-97D50FE0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5573-A144-41B1-944D-A345F89B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523C-F41E-43A3-AF6E-3F3AC58F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D507-3E80-47EE-9EBA-1538E3D6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E005-EF80-4BC6-9AE1-E88E7F24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98A3-BED9-4056-BFCE-E5A7638D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9050-3F2E-43AC-B13C-84EE1D38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6B7-4EFF-4C59-B3AF-CD43B226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3D2-B8FF-45B7-BF3A-19AADBA3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83E8-3E29-4E48-89E5-F2C59277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BF0-067B-4B33-9D96-3F0D6077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231-1547-448D-9AD1-ECE24D58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8C0C-7AFC-4186-BEB4-361F21E2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4F3B-3367-41E2-8AE1-D84392983C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8D81-3B55-4062-94E3-B7980C609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UAL THINKING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sica Gas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ROOM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ers use three techniques while students discus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Paraphr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Conn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Fo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Visual Thinking Strategies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ROOM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will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Ob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Disc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Def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) Lis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Accept diverse view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Visual Thinking Strategies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ang-O'Higgins, Y. (Performer) (2012). Visual thinking strategies public seminar [Web]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rieved from http://www.youtube.com/watch?v=48JVXb2PC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bertson, K. (2006). Visual thinking strategies for improved comprehension. Retriev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http://www.colorincolorado.org/article/13279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mith, F. (2008, October 08). The eyes have it: Potent visuals promote academ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chness. Retrieved from http://www.edutopia.org/visual-thinking-strategies-art-curricul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ompson, J. (n.d.). Visual thinking strategies. Retrieved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contemporaryartscenter.org/visual-thinking-strate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ual thinking strategies. (n.d.). Retrieved from http://vtshome.org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GOING ON IN THIS PI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828800" y="914400"/>
            <a:ext cx="556272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 of learning for students that uses art as a catalyst for discu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 thinking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 lite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Visual Thinking Strategies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ers use artworks and imagery to start a dialog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 facilitate discussion amongst students being neutral and unbi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lead discus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S fosters a respectful, safe environment to express opinions and id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mith, 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and researched by Abigail Housen and Phillip Yenaw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an research in 19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homps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sthetic Development Interview (ADI) utilized to study over 4,000 su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ject is shown various ar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iewer does not ask guiding questions, only invites subject to t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iew is recorded, then dissected, then categorized into 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econdary information like portfolios and journals also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“Visual Thinking Strategi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t's subjects cover age-old stories often addressing universal human concerns and condi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t's subjects transcend economic and cultural bounda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t is intentionally ambiguous, open to a variety of interpret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elings are embedded in art along with information, triggering a full range of expression from those who look at it thoughtfu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yers of meaning, symbols and metaphor encourage probing and reflecting in young people, as they do in adul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Visual Thinking Strategies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STAGES - STAGE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1 - Accoun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2 - Constru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3 - Classify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4 - Interpre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5 - Re-Cre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ROOM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ers ask three ques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's going on in this pictur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you see that makes you say th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ore can we find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Visual Thinking Strategies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21:03:06Z</dcterms:created>
  <dc:creator>Jessica Gaston</dc:creator>
  <dc:description/>
  <dc:language>en-US</dc:language>
  <cp:lastModifiedBy>Jessica Gaston</cp:lastModifiedBy>
  <dcterms:modified xsi:type="dcterms:W3CDTF">2012-07-05T21:34:37Z</dcterms:modified>
  <cp:revision>55</cp:revision>
  <dc:subject/>
  <dc:title>VISUAL THINKING STRATEGIES</dc:title>
</cp:coreProperties>
</file>